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C5AC-493D-4FB5-92D3-89C474D2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5121-E21D-4BBA-AC5F-1FA5A72E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0564-92E7-4F2E-A471-0A43E0BD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F13C-FBDB-4C0A-A721-6D67321A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BF7-0200-4527-9897-DBD62CCF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4CCC-B228-496E-8377-F12D55DA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2EEE-6F1C-4696-8AD1-FADA05FB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E662-8F83-4C3B-ADDC-59CA8809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C90-A20F-4D1D-B8F0-C9637245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205-B352-40EF-809E-150ED6C1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15F9-CAAF-4C94-949C-835A24BC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CAD6-2F2D-4808-A1B4-6CD27C75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ED60-4EF9-47D8-8ED5-D23DB6123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9200" y="58680"/>
            <a:ext cx="932832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ur Goals for Today:</a:t>
            </a:r>
            <a:br>
              <a:rPr sz="43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 Familiar with Curriculum We Will Teach, Model Step One in Process of Unit Planning, Assign Our Culminating Project/Performance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7600" y="294840"/>
            <a:ext cx="9664920" cy="19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t Purpose and Identify Desired Results:  First Step in Unit Planning Process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37600" y="1834920"/>
            <a:ext cx="9664920" cy="59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One:  Browse through Curriculum Map and Standards for BSD 9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Language Arts.  What do we not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Two:  Consider Q3 unit (no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le notable Nouns and Adjectives (stated or implied Big Ide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a box around notable Verbs (performance task/culminating project ide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Three:  Look at the instructional and performance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nes are addres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Four:  Repeat process above with "Acquire Skills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ding Literary Text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Five:  Brainstorm Essential Question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Six:  Test against checklist (Wilhelm p.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Seven:  Brainstorm possible performance tasks/culmina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 (Wilhelm p. 6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ere We Are Headed Nex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fer process to planning for your u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dentify skills necessary for completing performance task and acceptable evidence of understan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Backwards Plan/Plan Learning Experiences and Instru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BSD</cp:lastModifiedBy>
  <dcterms:modified xsi:type="dcterms:W3CDTF">2011-02-08T22:55:15Z</dcterms:modified>
  <cp:revision>2</cp:revision>
  <dc:subject/>
  <dc:title>PowerPoint Presentation</dc:title>
</cp:coreProperties>
</file>